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543-9207-4E50-AC68-4C36A1B2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12B-632C-4906-A920-99F31B5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FAA-0FC8-4A2B-A463-6FEF4E6E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172-680E-43D9-9285-6E4B4451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6954-73AC-4DE3-9C3E-C848B0EC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ECA3-A7D7-4D8F-9E9E-EB2692F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AA97-9B11-4FB8-A3E6-B41FFE6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D41-5212-432B-B7FD-31E3F0A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2DA0-0224-4743-A304-95A5691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3CA-82F3-4DA7-AB05-A7FFB97D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F9B-F759-4067-BBFD-4FF7C40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C80-9C7E-46C9-AFE8-324339FE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423-B234-4AB2-A62C-0715C33C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D8AB-DFB7-485B-BEF2-7F5053F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425-385C-4E6A-9EA0-458B8B7F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BF4C-E253-45A9-956B-8FF00C25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A69-4843-41CA-9D4D-96343F08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29A3-8385-4EBD-BEB1-F5E3C371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88ED-95A5-4845-B540-DD1CABE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5359-FB09-4F45-8E98-F58D718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A73C-957C-4754-903E-D22AEE7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605C-392D-4081-8026-62CD84C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29A-D760-4C77-A451-E927F45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E4CD-0B43-4AE8-BE7E-94130A1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34B2-9EE0-4D7C-884B-93AF981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F5D2-0E6A-40FA-BC80-96FA7F9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AA3C-054F-4133-B417-F17E65F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8004-6520-4212-9127-5D13075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F87E-B81D-4F2E-BA07-CD177F35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C2E2-96DE-4C91-961F-0C920D9E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9244-F0EA-42B0-8E99-579E4050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8380-7585-49E2-B955-719A984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5BC2-5B13-46E1-8B7B-3EF88DF6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34F-9FD8-4ADE-B5EC-F9FF8C13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F639-0D71-41BC-99F9-FFDE54B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BFF2-8445-4BB0-9088-1BFCEBA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96CB-2819-4030-9330-03A37D6A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4A09-14A7-4AB4-BB39-12397CD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F94A-BE8C-45B3-911F-81A1916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9A07-05EE-4ED3-B528-CA45D34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689F-87F4-4630-853C-4B40F12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C650-4F0D-4B38-A0B7-B74391A1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89B8-F6CF-41A0-A1D4-C957B16D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5B4CE-C25B-4A7B-946E-B247CB33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F6D-ABF8-4687-B25E-C66C506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FDB0-9829-42CE-B7B7-01E2519A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32B6-C86B-4DED-8DB5-34763DD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B4445-9E7B-4C09-98A0-831446C1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C78C-4733-4EA2-9AFC-CE9D09FC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2D23-FBDE-450B-8E0D-E5BC2BB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A62B-F009-4A25-984B-8511CAA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820C-C0D4-43E1-AE85-38B5E8F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D0BE-B5E9-4CA0-BEC2-A8685C1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8B6F-077D-44CE-80A3-178DC20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08AF-0FE5-4D56-82D7-20B942DC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F4A-13DB-440B-8A63-CE1E402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8088-E047-4FE9-A973-49B7867D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F119-CFD8-419D-BD4A-78D7054F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69B5-73A3-4A0A-BD65-80EEC1F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C8EC-9DD1-4CBE-A9A7-A64CA5C8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73C2-1E9D-446A-9A0A-3B1AE42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57913-0DA8-4702-9DC0-9827579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971D-A860-4D12-95C3-4F8597C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A518-8E4A-431B-807A-75C3EEC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65BF-042F-446E-8691-EE539B1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4D78-E91D-412B-86EE-F7186F3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46-E678-4A26-B846-136A7C9C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94925-D222-4CC1-8955-3151A16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773DB-CE01-4D5F-AEE2-81DFC96E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A522-E25B-4DAF-B789-AE4272F9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D7F9-195C-46BB-9C6D-237D9376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3511-BED1-418A-A836-ACC860AE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5E66-1719-4238-A491-8B5B8447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9406-3E40-42CF-A295-62B6131C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51F5-C325-428C-8E45-F5C22B6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1800-3859-4727-93A2-F95CAF1C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CA17-7F91-47D4-9E85-A579575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409-E469-425C-9E9E-C6376DA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4520-79F0-4B84-AFBF-E73015C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AA14F-8EFA-4824-938A-7D8E9A0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FC34-60D3-41D6-96D7-136BE90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5957-3A21-4C30-BF91-48A5F057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9E0B-F0F2-4651-B9E8-B098F70F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080C6-A4FB-46EF-AC87-EEE6CED4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C3C7D-88E0-4D64-9575-4B87F75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BF3D8-BCEF-4FA9-B31E-07F13AF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59A1-AE96-4E70-A7FC-F7F67ADB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059A-9C45-4955-8F64-BBD27E3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C25-B7BC-4BD3-8714-D126477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1E42-6EB7-4F56-A366-CDC627F2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563EA-DE4D-41C6-A8E6-FCA671E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DE163-8C54-44DD-AE19-8DC1E9F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3B51-8FA2-4173-A8E2-1289FD4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4AF6D-2489-48BB-B13A-F6915B1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2E38D-7D62-4A23-9C38-656183ED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EF88-A472-4C7A-B5C7-36F4A3CE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C08-3161-414A-9466-F4713120A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1F75-742F-47B1-AA84-65657D3E6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033-D342-4B2B-859C-DC620423BA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A0CA-0C4E-4989-811B-C46A05CE3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D1E-3002-4A7D-AEEC-D05B7130CA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8AFF-48C0-4DA9-AAD3-B993626340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570-B96A-4923-B0FE-FE7278190E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9084-AEE8-49FC-A8ED-6A232F4471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8406000" cy="2183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Prepared by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Lovely Rose O.Decen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BEED-SpED 2b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Refers to the users are in contact with other people concept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It is the learners interaction with pre-existing and exposition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Combining force  of the learners  in terms of the concept or task given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Lucida Sans Unicode"/>
              </a:rPr>
              <a:t>According to Larry Cuban has traced the history attempts to use the technology in the classroom.</a:t>
            </a:r>
            <a:endParaRPr b="0" lang="en-US" sz="3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Lucida Sans Unicode"/>
              </a:rPr>
              <a:t>Its effective used for the teacher having a machines because gaining knowledge for the student.</a:t>
            </a:r>
            <a:endParaRPr b="0" lang="en-US" sz="3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The ICT which is information communication technology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It is the student-teacher interaction engaging the technology exist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The biggest role of the society to sharpened individual thoughts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 rot="10800000">
            <a:off x="609480" y="66596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-115920" y="603360"/>
            <a:ext cx="89186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7238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365040" y="781200"/>
            <a:ext cx="9820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-45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2840" y="268200"/>
            <a:ext cx="89852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he progressive of individuals it depends to his/her capability  in order for him to succeed. Learning also is the long process to understand the context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76040" y="0"/>
            <a:ext cx="85172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769608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385" name="Title 1" descr=""/>
          <p:cNvPicPr/>
          <p:nvPr/>
        </p:nvPicPr>
        <p:blipFill>
          <a:blip r:embed="rId2"/>
          <a:stretch/>
        </p:blipFill>
        <p:spPr>
          <a:xfrm>
            <a:off x="92160" y="139680"/>
            <a:ext cx="90756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685800"/>
            <a:ext cx="82296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Three Stages of learning can be identified these represent a learning cycl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0492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5:13:57Z</dcterms:created>
  <dc:creator>CHANGE_ME</dc:creator>
  <dc:description/>
  <dc:language>en-US</dc:language>
  <cp:lastModifiedBy>CHANGE_ME</cp:lastModifiedBy>
  <dcterms:modified xsi:type="dcterms:W3CDTF">2010-07-30T16:37:06Z</dcterms:modified>
  <cp:revision>10</cp:revision>
  <dc:subject/>
  <dc:title>Pedagogy, lifelong learning and ICT</dc:title>
</cp:coreProperties>
</file>